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170-759A-4249-B8A2-F4A35A4D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9C6-925A-4610-8758-C016CAA5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41B-0C3D-430B-8585-E9F6D5F6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60C-BB62-44C0-B01B-E5813BA2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194F-4CFE-456F-9479-6CE19ED1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95C8-42C9-447A-934C-1BAAFBC7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AAEE-6994-473F-B335-A1B497E3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98D4-3ABB-444B-840F-469FE5DB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774A-7FDA-44BB-8F60-7466C920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0293-3697-4BB1-8AFA-CC0373FC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117D-293F-4145-A553-A98FED3B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801-CCBD-43FF-A5E2-9D52DEBF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C71A-6809-46BC-B51F-3DAEE0D8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2DB3-AC37-4937-AFAE-4B681904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EAD5-4145-4BC4-87C0-B9B422B0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2E55-EF3A-47AC-968E-0F7A7AB9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9E55-3FEF-4D66-8F45-78D8BAA2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FF1-359A-40BC-B971-16755A57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025-ED30-4093-B2A3-4099F6BC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C1E-AE4C-47A6-A396-91AAC5EE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D2B-46BD-425E-BAB5-170ACC2F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363-5C45-44C8-9BCF-9EDE653D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9EF-160C-420B-9897-964F7F7A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CB6-C31E-4C12-B5BA-1677AF21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DD71-2A79-4288-AABB-43B3BD15AD5B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7C37-A9CD-4741-A55A-A0B051E107F5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Wash It Ou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ayden H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ossible Applica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my mom does laundry she can use the Tide Stain Release products to remove tough stai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ossibl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uses of Erro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did not allow each piece to stand for twenty-two hours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shing machine temperature was not the exact same for each load.                                    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rther Research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e and Oxiclean have the same ingredients in the powder portion, but only the Tide has the liquid portion, which made the towel cleaner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knowledgement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ould like to thank my Dad for helping me stain towel pieces and taking pictures. Also, I would like to thank my Mom and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ndmother for getting supplies that I forgot in an emergency run to Hutchiso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OxiClean - FAQ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xiClean - Home P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Web. 10 Mar. 2011. &lt;http://www.oxiclean.com/FAQ.aspx&gt;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OxiClean - OxiCleanÂ® Max ForceÂ® POWER PAK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xiClean - Home P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Web. 10 Mar. 2011. &lt;http://www.oxiclean.com/in-wash/Products/oxiclean-max-force-power-paks.aspx&gt;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Tide (brand)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kipedia, the Free Encycloped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Web. 10 Mar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1. &lt;http://en.wikipedia.org/wiki/Tide_(brand)&gt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Tide Stain Release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Web. 10 Mar. 201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www.tide.com/en-US/categories/tide-stain-release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s.jspx&gt;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ll the more expensive Tide Stain Release Duo Pack be more effective on stain removal than the less expensive Oxiclean Max Force Power Packs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Hypothesis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 predict that the Tide Stain Release Duo Pack will remove the stains the best because it has a liquid stain remover as well a powder portio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aterials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35 by 50” 100% cotton tow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ashing Machin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cisso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ide Stain Release Duo Pack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xiclean Max Force Power Pack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2 Poste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ide Laundry detergen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ashing Machine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pendant- The cleanliness of the material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dependent- Tide Stain Release Duo Pack and Oxiclean Max Force Power Pack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rol- Tide Laundry Detergent  with Acti-lift Technology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ocedure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ut towel into 35 equal pieces 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Stain towel pieces with 1/2 T. of chocolate syrup, soil, and ketchup (10 each)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et stand for 22 hrs.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Wash on Ultra Clean for 10 minutes on Heavy Duty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lue to poster with Tide being A, Oxiclean being B, and Control being C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Have Cleanliness Voters vote on the cleanliness of the material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ajor Observation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jor observation that I have is that plain Tide does not have the stain fighting power as with the additives. Also, Oxiclean leaves a pleasant clean smell, where Tide Stain Release has an unpleasant bleach smell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ide Stain Release Duo Pack won with 9/10 vote. The Oxiclean Max Force Power Packs lost by a close 6/10 vote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nclusions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opinion is with the cleanliness voters. I believe that the Tide with the Stain Release cleaned the best on the majority of the stai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30:43Z</dcterms:created>
  <dc:creator>USD376</dc:creator>
  <dc:description/>
  <dc:language>en-US</dc:language>
  <cp:lastModifiedBy>STERLING  USD376</cp:lastModifiedBy>
  <dcterms:modified xsi:type="dcterms:W3CDTF">2011-03-11T14:56:58Z</dcterms:modified>
  <cp:revision>14</cp:revision>
  <dc:subject/>
  <dc:title>Wash It Out</dc:title>
</cp:coreProperties>
</file>